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4E6B-A12D-4443-BDF5-53907FD38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8B10-1B0C-4817-B999-F207E7D32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D4F-A8C2-4EFA-B480-D6633F3A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124-03C3-4644-B734-42C8F146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26D-E497-4395-B830-F6751011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0EE-CCC2-49E1-9F2D-3561BD9A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64F5-996A-4C40-ABF2-1517481B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D468-9973-4C09-9E68-83CA3A76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DAE3-962B-4714-A1CD-DA87989F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C9A7-16DE-4BF9-88F8-8FFB95BB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4678-8BE4-4698-B410-DE6EAA98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79A2-42D5-4EE0-83D5-5A922923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3304-F683-4FB1-9E80-1280E74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682-161F-4544-9F2C-678417B8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5875-4868-4637-BA09-121B88A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C2F4-FCE2-4863-89F3-22DB08B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1EB3-E4B5-4BC2-85DD-3008D85F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144D-D025-4986-BA58-DD72F33E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4805-1A11-4E19-BBBA-6B8D2587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C57B-7544-47D6-809D-4620066F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70C2-242F-48E0-A9F1-22EA7DEA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38F24-0F08-4853-90E0-40B209C6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D6BE-E9C4-4656-ACEF-558452FD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676F-3A55-4454-AE38-4431EB24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BEA-CDC4-4B09-8722-1411936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4D693-F9C0-4A46-86F9-AC4A0E14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85D6-0392-4FA4-9D46-83EB810B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A669-BD98-4F2B-AD38-271D6072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9F7C-8096-4314-BAD6-8862E536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9880-8C54-4E5F-A2AC-076F74EF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CF3A-E3D6-4C2B-ACEF-D6651253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9409-39BC-4C57-AD4A-DD39B12F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AD0A-84A2-4823-84DA-28795C32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EF0CA-7181-4EFA-A2DB-80F3A21B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3083-F66B-4D36-8E3C-1C968345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6A44-1184-4C91-974C-11B6AEA7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A71F-9194-4262-8900-EBAAF3E4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A066-57D0-42A8-AB04-FF770587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9B51-1D30-4254-9B63-8CF5732D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2E67F-8C33-4459-85B6-05847910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BB2C-155B-46C7-A27F-9D4C89A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D08A-8AFF-48F6-8F31-57C54F85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FCA3D-8D02-4187-9A71-0DDB2AD3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02B00-FE85-4F3A-9394-5D84A202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B6F9-3B76-4015-8FBD-4C502CFF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387A9-CCEC-4361-B751-D2989257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EEE-327C-4B3A-B6D6-EC969CC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CA9F9-2A0C-4CAB-91B8-14EA0A7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8A4B0-8498-4C6E-8947-F7E67735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C7722-4CFA-4F69-BB1D-B424652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EC935-BF25-4D26-8E65-15F185BF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FC3E4-AD53-4BB0-95AB-6E90629A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18D9C-624A-431E-86DB-BD4B535B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9E89-AC06-42FF-B609-D718E09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FC998-8A73-4AEB-A12E-4E22F253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D3A2-9867-42DA-A446-863681AB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0908F-B1ED-4B0B-B33A-0A2D8C2D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918-0F8F-42C5-8A96-E2798508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2F684-3199-49D1-8E62-2A5B2AD3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1DB98-D5C5-4732-8390-E92E37BA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98749-A159-4B44-868F-8FD9827C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D2123-2FA8-44D9-A6EE-563FC325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0D8A6-5861-4E1C-913C-E0132CAD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F7B32-4CDE-4FCD-B2E4-6DCE1928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4AFF-1D23-4243-AEEC-D0067529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98A34-9D62-4180-80B5-975774EB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44CA0-0D6B-4FD4-8388-12B11EF1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3AAF6-B9CA-4F5D-8ACB-5AD5797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9E7-7F77-437F-9EB2-900767E7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1936B-52FC-4D73-A535-CB02A9D4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BFB77-1DE0-4435-B97C-7136A9B3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F2733-F434-4521-A968-2B9DB54E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6ED46-7955-4407-9EE6-39EF5A2E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F6A0-2F90-4E57-A61E-EAEC339D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008B6-957D-4348-909C-08A3A087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E8BB1-105D-459C-9FFF-D8D2ED2F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DFE3-7C8C-41D2-A0E7-AFB9599C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57B3E-F954-478B-B07F-486E7E51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83D9D-C517-4ABE-9FA7-6540AEF0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696F-EA2B-4F7D-BE5B-079EFE2F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EEC5F-C01C-434A-9453-860B200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546A8-F435-4FA7-87AC-1A77EFC8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59E2C-C9AC-4CFC-9384-17D4D7C4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3FAFF-6AA0-43BA-AF2E-C6C7AD11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B4642-1CF1-4026-A411-EF89E93B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257-7219-4123-AC10-2DFA17CF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037F-212E-44C1-9FDA-D0C85DB4624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26D-ADE5-463D-BC40-2F254A15342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A4FC-5DD0-4951-B4FB-9EC5CBE4AD4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23BC-0C67-4748-8E87-7597955C061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5A0A-926F-4DC5-A0C9-DCB669C7ED9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9676-E8CC-469F-8EEC-186A9AB60C0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32F6-2C5D-4ED6-A1BF-4440755F681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449-106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terary symbols that stand for a significant concept in a work of literat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ot – represents achievements of the Scyldings; a place of light, warmth, and jo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ndel’s lair (swamp) – morbid, hot, da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ven though Beowulf was written as a pagan myth, more than likely a Christian monk copied it down, adding Christian elements into the dialogue and plo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 of Christian elemen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 21, lines 20-23, “Conceived by a pair of those monsters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born of Cai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murderous creatures banished by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Go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punished forever for the crime of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Abel’s death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ge 33, lines 483-485, “for that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n-stained dem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had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bewitch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ll men’s weapons,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laid spell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 blunted every mortal man’s blade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oet Homer wrote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Odysse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osed sometime between 900 and 700 B.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ttle is known about Hom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nam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Home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ay mean “hostage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 may have been a slave or descended from slav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mer used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pic similie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(extended comparisons.)  These comparisons last for several lines, us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and compare extraordinary, heroic actions to simple, everyday events with which Homer’s audience would be famili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ld in oral trad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ong with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Odysse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ells the story of the Trojan W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war began with a beauty page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phrodite, Athena, and Hera decided to compete for a golden apple which was inscribed “To the Fairest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ods chose a mortal to judge the page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is, the prince of Troy, was chosen as the judge.  He was young and handsome but naïv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oddesses each attempted to bribe Paris.  He finally accepted Aphrodite’s bribe because she offered him the most appealing gift—marriage to Helen, the world’s most beautiful woma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There was a slight problem though.  Helen was already married to King Menelaus of Greece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Paris took her anyway, and they sailed for Troy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The Greek chieftains were outraged by the abduction.  They were bound by oaths of loyalty, so they followed the leadership of Menelaus’s brother Agamemnon and attacked Troy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reek war party laid siege to Troy.  This led to a conflict which lasted ten years before the Greeks defeated Troy and recaptured Hele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was due to the craftiness of Odysseus that the Greeks were successfu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revolves around tow main character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hilles – the bravest and most handsome warrior in the Greek arm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ctor – the honorable warrior-prince of Tro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tragedy of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Illia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set into motion because of human emotion:  the anger of Achilles toward Hec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ctor kills Patroclus, Achilles closest friend, and takes his armor from the corp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hilles seeks reve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rhy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iteration – repetition of consonant soun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esura – a rhythmical pause in the middle of a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 beats per li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xture of Christian and pagan ele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nnings – specialized metaphors of comp0und w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lgamesh – the king of Uruk; eager for fa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kidu – Gilgamesh’s friend; faithful and dedicat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umbaba – evil; deformed giant and forest guardi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ROIC IDEAL?  WHY or WHY NO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eter Book – a manuscript of miscellaneous Anglo-Saxon poems dating from 940 AD, copied in 975 AD, and preserved at Exeter Cathedral in Engl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enn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mager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legaic mood (a sense of sadness over the grimness of earthly life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iter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3182 lines as opposed to over 15,0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pic – long narrative poem about the adventures of a hero whose actions affect the fate of a n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rbel"/>
              </a:rPr>
              <a:t>Iliad, The Odysse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nglo-Saxon heroic ideal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rified by the people he sav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xtremely ethica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nsters are defeated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uperior strength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central idea or insight of a work of literatu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OT the same thing as the mor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ften impli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did the hero do in the story?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did the heroes actions show his concern for society?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Both questions sound the same, but the first deals with the PLOT of the story.  The second deals with the 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theme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of the stor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at are some common themes in literatur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rime does not pay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dversity (hardships) can be overcom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Life and death are intricately connect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eowulf – epic hero; a Gea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recca – Beowulf’s friend &amp; competito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iglac – Beowulf’s uncle &amp; feudal l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rendel – man-eating monst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Unferth – skilled warrior of Hrothgar; jealous of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runting – Unferth’s sword used by Beowulf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rothgar – King of the Danes (Denmark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eats – Beowulf’s tribe (Swede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Grendel’s mom – she-wolf; water-witch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erot – Hrothgar’s golden mead hal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yrd – pagan goddess of fat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iglaf – Beowulf’s loyal warrior; fights the drag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Content Placeholder 3" descr="2.jpg"/>
          <p:cNvPicPr/>
          <p:nvPr/>
        </p:nvPicPr>
        <p:blipFill>
          <a:blip r:embed="rId2"/>
          <a:stretch/>
        </p:blipFill>
        <p:spPr>
          <a:xfrm>
            <a:off x="609480" y="1676520"/>
            <a:ext cx="4375440" cy="46479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5715000" y="190512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des (Scylf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ats (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s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hob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of vivid or figurative language to express images in art, literature, or mus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agery appeals to ALL senses—sight, smell, taste, hearing, tou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 found them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prawl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n sleep, suspecting nothing, their dreams undisturbed.  The monster’s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thoughts were as quick as his greed or his claw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 H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lipp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rough the door and there in th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ilenc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natched up thirty me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smashed them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knowing in their beds, and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ran ou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their bodies, th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blood dripping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ehind him, back to his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lai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delighte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with his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night’s slaughte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mething that causes a person to act in a certain way; incen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 of motive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rendel’s monstrous mother,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in grief for her s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next attacks Herot, and in her dripping claws she carries off one man—Hrothgar’s closest friend.  The monster also carries off Grendel’s arm, which Beowulf had hung high from the rafter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8:09:43Z</dcterms:created>
  <dc:creator>pcoles</dc:creator>
  <dc:description/>
  <dc:language>en-US</dc:language>
  <cp:lastModifiedBy>pcoles</cp:lastModifiedBy>
  <dcterms:modified xsi:type="dcterms:W3CDTF">2010-07-24T21:03:17Z</dcterms:modified>
  <cp:revision>27</cp:revision>
  <dc:subject/>
  <dc:title>Anglo-Saxon Literature</dc:title>
</cp:coreProperties>
</file>